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F8D-31BE-4AA2-B5BE-B2243B27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F54-1415-4681-B62B-8433247D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420-22AC-4EEC-A483-1C244B58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6CB-B2FA-4046-95FC-5D64FA79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12B-9B31-4179-ABA0-BA0A797D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86A-F847-4611-8677-2DEA84D2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361-79FC-4B3C-8B4E-3B000026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9E8-5A85-436F-AC8D-B58C6583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BE5-3C46-4F82-AC9F-237E422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D1A-8465-4EEF-A32E-D12EB4F3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5E2-EF29-4969-BCF6-971139E2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EB8-C269-49F0-8ECC-A12FD5D1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1D588-05D2-4B23-B338-FC3074F6A9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Dybboel Mi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3042" t="4345" r="8694" b="0"/>
          <a:stretch/>
        </p:blipFill>
        <p:spPr>
          <a:xfrm>
            <a:off x="254160" y="1900080"/>
            <a:ext cx="4425840" cy="475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The Mill is built in 17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In 1800 the mill was struck by lightning and burned down. It was rebuilt immediately af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In both Schleswig wars 1848-50 and 1864 it was destroyed and rebu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In 1935 it was burned down after a short circuit, but was rebuilt in its present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Until 1990 the mill milled g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Now the mill is used as a museum. 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096920" y="-658800"/>
            <a:ext cx="98121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Comic Sans MS"/>
              </a:rPr>
              <a:t>The Battle of Dybboel mill:</a:t>
            </a:r>
            <a:r>
              <a:rPr b="0" i="1" lang="de-DE" sz="2800" spc="-1" strike="noStrike">
                <a:solidFill>
                  <a:srgbClr val="000000"/>
                </a:solidFill>
                <a:latin typeface="Comic Sans MS"/>
              </a:rPr>
              <a:t> Dybboel mill was  in the middle of 2 wars. The 18 April 1864 accurate at 10 o'clock, 37.000  Prussian soldiers attacked  Danish soldiers they were only about 11.000. The danish soldiers stood for 6 hours, then the nearest redoubts were bombed with 7900 grenades from the Prussian batteries which consisted of over 100 canons. The Danish soldiers stood against for 4 hours, before they withdrew to 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380360" y="0"/>
            <a:ext cx="2700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15160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Here we see Dybboel mill , and 3 stones wich are memorial war mon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328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Dybboel 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60720" y="2340000"/>
            <a:ext cx="720720" cy="144000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328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42920" y="1627200"/>
            <a:ext cx="3886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This is Cristia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r>
              <a:rPr b="0" lang="de-DE" sz="2800" spc="-1" strike="noStrike" baseline="33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 king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Denma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On the mon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it says: With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for honor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8:14:04Z</dcterms:created>
  <dc:creator/>
  <dc:description/>
  <dc:language>en-US</dc:language>
  <cp:lastModifiedBy/>
  <dcterms:modified xsi:type="dcterms:W3CDTF">2010-04-13T08:01:37Z</dcterms:modified>
  <cp:revision>3</cp:revision>
  <dc:subject/>
  <dc:title/>
</cp:coreProperties>
</file>